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FC8E-EC3A-4C9E-A024-0BBFA363462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8D2A-EFB2-4505-8F1B-8175F0B1B32D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CC1A-1F62-4EF4-9D48-98366C2679EB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4DEE-9BDA-4CB7-8FDD-0CA4A32BC1B8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79CA-51D2-4764-8DE2-FDBA65A3E3F1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AEE0-AD27-4698-9B54-E86A14962B91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3400-3ED6-49E4-BC44-647373DC9EDB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3218-A006-46D5-A043-A2BB5DB9B1CC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A309-37C0-4A2B-8BEC-438B882A4D44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4CA8-CD2A-429F-B7A5-3B939F9D24AE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467C-19C8-410D-986A-10DF36750874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D7E3-4E6B-4354-996C-085457062AD3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E24-BBB2-4D7E-A6A7-96446234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D128-4F7E-4BD5-9207-90E9F714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DE7-B3D3-4FF9-B420-1415FFCB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56D-4C3F-4968-BB3A-E8F33CFE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F31B-DC18-4F71-B5F6-F4B255D3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2094-08B1-42CE-9C0B-6E19C283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8040-F7E6-4C89-AEB0-F7050929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5BF1-3C76-4F72-831D-5C8DCBFF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DDAE-D43D-4210-8C53-F95A741F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9C4E-6642-441C-8353-C314D8E4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458B-31CA-44F3-9848-1BF43A65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189-B823-466A-A147-194B91E0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B1CD-E4E0-4D4C-9636-E929565C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8389-4E40-44B0-A109-A1DD197B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C631-8F4E-4D92-BF50-F0C7DBC6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2F3D-204F-4541-97B2-757AD142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36B9-EB70-4B28-ADD2-31459F82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7277-DE14-4357-9276-C67C6863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21D2-8CE3-4032-9362-860CCB16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C114-F217-44DC-881A-F10CB0A2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5BC0-0A74-4606-B91F-5CDDC6BC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BEA-06E3-446B-89B6-0CF31079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740-1060-4C97-B7B7-E4919C3E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16B4-69EB-40EC-9C91-F1CEC4AD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1929-08E0-4F5E-A6E1-BC695DB08609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prstGeom prst="pie">
              <a:avLst/>
            </a:pr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0340-1164-43C1-930C-6794D09835AB}" type="slidenum">
              <a:rPr b="0" lang="en-CA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ing </a:t>
            </a:r>
            <a:br>
              <a:rPr sz="5400"/>
            </a:b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ebook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UWindsor students need to know…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o Can See My Profil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1285920"/>
            <a:ext cx="62370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Although it can feel private, it is a      </a:t>
            </a:r>
            <a:r>
              <a:rPr b="0" i="1" lang="en-CA" sz="2600" spc="-1" strike="noStrike">
                <a:solidFill>
                  <a:srgbClr val="446eb2"/>
                </a:solidFill>
                <a:latin typeface="Arial"/>
              </a:rPr>
              <a:t>very</a:t>
            </a: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 public forum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eople share photos, look at profiles  in public places, and view friends’, and friends’ of friend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Your “friends” may not have the same level of privacy settings as you thereby making your information accessible to more people than you think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Read the fine print “Facebook’s Privacy Policy” and “Safe Use Principles”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How Well Do You Really Know Your “Friends”?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571760"/>
            <a:ext cx="581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focus on trying to acquire as many “friends” as possib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selective OR consider “customizing” your privacy for those who are not “close friends”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gnoring a friend request is perfectly okay if you aren’t sur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7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42680" y="1413000"/>
            <a:ext cx="607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o’s looking over your “friends’” shoulders while they are looking at your profil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ny employers look up potential employees on Facebook to get a better understanding of the applicant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Consider thi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46eb2"/>
                </a:solidFill>
                <a:latin typeface="Arial"/>
              </a:rPr>
              <a:t>http://www.cbsnews.com/stories/2006/06/20/eveningnews/main1734920.shtml?source=RSS&amp;attr=SciTech_1734920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676160"/>
            <a:ext cx="58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Bikini clad, beer chuggers will not impress a recruiter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Even if your profile is closed, people who know people can inadvertently encounter your information –it’s a small world!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arts of your profile can remain accessible to the World Wide Web in more ways than you might realize –a mere “google search” can turn up a lot of information about you from the past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8fab0"/>
                </a:solidFill>
                <a:latin typeface="Arial Black"/>
              </a:rPr>
              <a:t>Groups and Your Association With Them: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640" y="1413000"/>
            <a:ext cx="616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ybe you work at Tim Horton’s and you join the group “Outraged Tim Horton’s Staff Unite: We know how much it REALLY sucks”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ould this leave a good impression if your boss saw your profile? 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about future employers who might be watch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You, the role model….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800" y="1676520"/>
            <a:ext cx="59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erhaps you are in a mentorship role?  (Leader, coach, scout leader, volunteer at a school)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Your mentee goes home and looks you up on Facebook and sees you in unflattering photo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essage are you send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ttention: Everyone</a:t>
            </a:r>
            <a:r>
              <a:rPr b="0" lang="en-CA" sz="24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412640"/>
            <a:ext cx="61009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lthough your online activity is   not likely to be monitored, you could be held accountable if you are engaged in questionable behaviou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you wouldn’t put on a poster for all to see (including grandparents and professors), you might want to think twice about posting onlin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Did Someone Say Polic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4680" y="1676520"/>
            <a:ext cx="6286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t some institutions, following an incident such as a party that gets out of hand, campus and city police have found information or photos on Facebook that may provide incriminating evidence about the individuals involved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Underage drinking, keg parties, acts of vandalis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Misinterpretations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ink about how the content on your Facebook could be interpreted or misinterpreted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ay seem like a joke to you and your friends, could be seen as serious by someone else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tories of Facebook addiction are also common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Did you know that Facebook gets more than 65 billion page views per month and more than half of active users return dail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ome students log in to their profiles several times a da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Remember why you are at Universit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681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6880" y="1428840"/>
            <a:ext cx="7000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elp you to connect or reconnect        with friend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tay in touch with long distance relationshi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hare photos, videos, informa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Join groups with like minded peop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32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5410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uch time are you “Facebooking” every da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re you using it wisely?  Is it controlling your every mov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ight this affect your work, school, and social lif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ighting the Addiction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5450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ace to Face vs. Facebook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kid yourself –logout or turn off your computer when you’re study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t goals –what do you need to accomplish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ime allocation –give yourself time limits –use it as a reward after you accomplish your goa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Look at the Bright Side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540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reating or refining one’s self identity and value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Use it to build connections with peers and create civil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onnect with people and groups that foster a positive sense of commun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Learn to use technology in creative and useful ways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e8fab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100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e YouTube clip below helps to illustrate that although there are many positive uses for Facebook, sometimes, users may get carried away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e8fab0"/>
                </a:solidFill>
                <a:uFillTx/>
                <a:latin typeface="Arial"/>
                <a:hlinkClick r:id="rId1" action="ppaction://hlinksldjump"/>
              </a:rPr>
              <a:t>http://www.youtube.com/watch?v=nrlSkU0TF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Don’t Be a Facebook Fool!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 Google search of “Facebook cautions” provides many articles and tips on using Facebook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informed and use it wisely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8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440" y="1676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nvite people to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ommunity build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et up-to-the-minute information on people or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Make you have a sense of belonging and provide social interac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610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How Can Facebook Impact You Negatively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240" y="141300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Friends –knowing too much about    you and you about the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 inappropriate photos and      not having control on photos posted of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Joining groups that may reflect poorly on your choices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s on walls that may use         foul language or reflect poorly on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Does it Really Matter Anyway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t’s nobody’s business –it’s my private world!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Right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Not really…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Privacy? Is there such a thing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57240" y="149976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ex-girlfriend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boyfriend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academic adviso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professo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eference for your next job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mothe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oommate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e guy down the street who gives you the cree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Information to Avoid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676520"/>
            <a:ext cx="5410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“Info” page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birthdate (especially the year of your birth) can make you more susceptible to fraud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addres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Contact info, cell phone, etc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schedule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Groups associated with -(be careful if they are offensive)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rom a Professional Perspectiv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5600" y="1413000"/>
            <a:ext cx="5643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s it just for fun, or are there people viewing my profile who may be judging m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f you say it to one person on Facebook, you say it to the whole world.”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But I Have the “Privacy” Setting Turned 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71760" y="1676160"/>
            <a:ext cx="6286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s it set to only “friends” or can the entire “University Community” gain acces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People at Windsor and friends” –means ANYONE associated with the U could potentially see your profile –even Alumni –ie employers, professors, etc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Friends of friends”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Only friends” –those you invi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Customize” –most secu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49:47Z</dcterms:created>
  <dc:creator>edcstudent</dc:creator>
  <dc:description/>
  <dc:language>en-US</dc:language>
  <cp:lastModifiedBy>edcuser</cp:lastModifiedBy>
  <dcterms:modified xsi:type="dcterms:W3CDTF">2009-08-20T15:58:06Z</dcterms:modified>
  <cp:revision>130</cp:revision>
  <dc:subject/>
  <dc:title>FACEBOOK  &amp;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